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78A86-CCC4-4359-81EF-4FFCDE788D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01ABB-BF3D-47D5-9DF8-30A800EAE4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1F7D0-BD37-467A-B1BF-6AEE5F64A9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BCE47-7974-4C95-9B54-D68552D9DB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76580-4AD1-41CF-ACCC-63E79EABAD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51603-2262-47E0-BB9B-8D2A8204A6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83407-F651-41E3-BE0F-0D0844D13B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586DB-26DC-4CA9-B7FD-D0D32AC809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1DB71-403A-41C3-A0C3-3FF7040797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342CE-95AE-4C6F-A120-EC4A940181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C5208-2BB6-4627-9985-2F7D96C8DE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19D55-2091-423F-A947-66C78E7A04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2CDC1-8445-405C-A732-63D6EF206C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4D0D9-C4A5-4B30-B896-84B0994528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702C3-6278-4D82-AB37-2D32659C64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40F93-D916-4182-9A55-CA0D205CC0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CFAD5-E4E8-4412-B19C-50C1A056E7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9E85A-133A-4B54-9579-ABD055164F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EAB03-A809-475A-8D22-061E5A8FD4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F3758-833C-4E62-854A-1AF38F44F9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CE109-886C-41F4-B2FA-01C6F1AC5F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E89C7-E578-4967-B041-4799A0A2FB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E84DD-372D-46B5-9ADF-0254F9BB00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2550E-77EE-40FC-9810-486650C47C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B3E0A-620A-403A-8D5E-49DAA5D5F0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3D9C4-6CAF-4DBA-B3D9-639DA8AE14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3E6FD-AE5A-410B-843A-05D0BB561D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BA5EB-83B9-4BA7-A6FB-138588DF84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0716A-9D9D-4867-BF45-EE90630169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6AA1B-BDE6-4D1D-91D2-86175AE438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C447B-FC88-46FF-BE40-2833430B37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D95ED-4CA9-4EC5-AA3D-3E0914FDFF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DBD42-8AFF-4C31-9C6D-9DC320FC70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30F23-3E18-4351-9D42-FAE7FBF282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4F5F8-1B5D-4197-84F6-F97DCE7DFC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4E725-089F-4064-99AD-A6C3C2013B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523D5-AF2B-42AA-836D-4505DC06F9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6B44C-B70F-4223-BEA1-30BE1D64FE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3A7D1-BE38-46FA-9D83-BF9C2DBD20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68BA5-EF09-4479-BBFF-0AA76DA69A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A15AA-B8A4-4BD1-8943-70B03FD8C6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1158-4944-41B6-8FFE-6F155623C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7F73-98A4-4635-8F06-102B22EDF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A37B-A3AB-4123-9514-E1F6FE09E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6F1F-4FA4-4DEC-8ADC-4C95DD37E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E8FD-6B62-4DFD-93F6-D0C99768B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61C4-89BD-4CE2-ABA1-7C6E2E997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241B-FADD-4922-88BD-85B9B28C3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3DFF-5F34-427D-BB9B-1D018FA6A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5CAF-0CAD-4392-9C45-310012DEE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CF42-BFFE-4E9F-A002-DDAFDDD44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24A7-CF06-4C7F-979C-F8374E444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E48B-C47B-4098-A718-22FE7E82E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209680" indent="-3808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209680" indent="-3808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410AC-14E2-4A28-BA3C-06F2A41F4D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114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sound waves that most humans cannot hear 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rasoni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ltrasoni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of the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e of the above, for young people can hear bo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RS Question Icon" descr="PRS32"/>
          <p:cNvPicPr/>
          <p:nvPr/>
        </p:nvPicPr>
        <p:blipFill>
          <a:blip r:embed="rId1"/>
          <a:stretch/>
        </p:blipFill>
        <p:spPr>
          <a:xfrm>
            <a:off x="8534520" y="16524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51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114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 which of these materials does sound travel fastes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99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te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the same at the same temper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880" y="10152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speed of sound varies wi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plitu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quenc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era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of the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RS Question Icon" descr="PRS32"/>
          <p:cNvPicPr/>
          <p:nvPr/>
        </p:nvPicPr>
        <p:blipFill>
          <a:blip r:embed="rId1"/>
          <a:stretch/>
        </p:blipFill>
        <p:spPr>
          <a:xfrm>
            <a:off x="8534520" y="16524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86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6300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speed of sound varies wi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plitu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quenc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99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empera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of the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457200" y="4800600"/>
            <a:ext cx="84582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7960" indent="-50796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planation: Although loudness varies with amplitude, and pitch varies with frequency, speed is not influenced by amplitude nor frequency. A listener in the back row at a concert would find music confusing if sound of different frequencies reached the ear at different times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95360" y="114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loudness of a sound is most closely related to 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quenc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i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veleng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plitu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RS Question Icon" descr="PRS32"/>
          <p:cNvPicPr/>
          <p:nvPr/>
        </p:nvPicPr>
        <p:blipFill>
          <a:blip r:embed="rId1"/>
          <a:stretch/>
        </p:blipFill>
        <p:spPr>
          <a:xfrm>
            <a:off x="8534520" y="16524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94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95360" y="114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loudness of a sound is most closely related to 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quenc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i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veleng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99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mplitu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95360" y="114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und made to undergo reverberation is sound that 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pathetically vibrat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ying in to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y reflec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rac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RS Question Icon" descr="PRS32"/>
          <p:cNvPicPr/>
          <p:nvPr/>
        </p:nvPicPr>
        <p:blipFill>
          <a:blip r:embed="rId1"/>
          <a:stretch/>
        </p:blipFill>
        <p:spPr>
          <a:xfrm>
            <a:off x="8534520" y="16524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101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95360" y="114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und made to undergo reverberation is sound that 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pathetically vibrat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ying in to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99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multiply reflec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rac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114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n sound undergoes refraction, it undergoes a change 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quenc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veleng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ns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RS Question Icon" descr="PRS32"/>
          <p:cNvPicPr/>
          <p:nvPr/>
        </p:nvPicPr>
        <p:blipFill>
          <a:blip r:embed="rId1"/>
          <a:stretch/>
        </p:blipFill>
        <p:spPr>
          <a:xfrm>
            <a:off x="8534520" y="16524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108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114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n sound undergoes refraction, it undergoes a change 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quenc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veleng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99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pe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ns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556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und can NOT b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lec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sorb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minished by interfer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e of the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RS Question Icon" descr="PRS32"/>
          <p:cNvPicPr/>
          <p:nvPr/>
        </p:nvPicPr>
        <p:blipFill>
          <a:blip r:embed="rId1"/>
          <a:stretch/>
        </p:blipFill>
        <p:spPr>
          <a:xfrm>
            <a:off x="8534520" y="16524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115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114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sound waves that most humans cannot hear 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rasoni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ltrasoni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99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Both of the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e of the above, for young people can hear bo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6300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und can NOT b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lec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sorb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minished by interfer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99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None of the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457200" y="5029200"/>
            <a:ext cx="78487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omment: Sound, like any wave, can undergo all of these!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880" y="114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nsing an invisible object by way of ultrasound is used 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lph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cal docto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of the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RS Question Icon" descr="PRS32"/>
          <p:cNvPicPr/>
          <p:nvPr/>
        </p:nvPicPr>
        <p:blipFill>
          <a:blip r:embed="rId1"/>
          <a:stretch/>
        </p:blipFill>
        <p:spPr>
          <a:xfrm>
            <a:off x="8534520" y="16524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123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114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nsing an invisible object by way of ultrasound is used 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lph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cal docto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99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ll of the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880" y="114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und normally travels farther in air when the sound 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 frequenc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frequenc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na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 in energ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RS Question Icon" descr="PRS32"/>
          <p:cNvPicPr/>
          <p:nvPr/>
        </p:nvPicPr>
        <p:blipFill>
          <a:blip r:embed="rId1"/>
          <a:stretch/>
        </p:blipFill>
        <p:spPr>
          <a:xfrm>
            <a:off x="8534520" y="16524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130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114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und normally travels farther in air when the sound 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333399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low frequenc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frequenc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na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 in energ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457200" y="5105520"/>
            <a:ext cx="78487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xplanation: Hence the low tone of fog horns.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880" y="39348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factory floor vibrates, and as a result you vibrate when standing on the floor. This i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ced vib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n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ra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ra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RS Question Icon" descr="PRS32"/>
          <p:cNvPicPr/>
          <p:nvPr/>
        </p:nvPicPr>
        <p:blipFill>
          <a:blip r:embed="rId1"/>
          <a:stretch/>
        </p:blipFill>
        <p:spPr>
          <a:xfrm>
            <a:off x="8534520" y="16524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138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880" y="39348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factory floor vibrates, and as a result you vibrate when standing on the floor. This i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333399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orced vib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n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ra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ra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39348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n you tap various objects, they produce characteristic sounds that are related 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veleng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plitu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i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ural frequenc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RS Question Icon" descr="PRS32"/>
          <p:cNvPicPr/>
          <p:nvPr/>
        </p:nvPicPr>
        <p:blipFill>
          <a:blip r:embed="rId1"/>
          <a:stretch/>
        </p:blipFill>
        <p:spPr>
          <a:xfrm>
            <a:off x="8534520" y="16524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145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39348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n you tap various objects, they produce characteristic sounds that are related 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veleng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plitu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i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99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natural frequenc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95360" y="114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n the surface of a guitar is made to vibrate, we say it undergo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ced vib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n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ra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plitude enhance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RS Question Icon" descr="PRS32"/>
          <p:cNvPicPr/>
          <p:nvPr/>
        </p:nvPicPr>
        <p:blipFill>
          <a:blip r:embed="rId1"/>
          <a:stretch/>
        </p:blipFill>
        <p:spPr>
          <a:xfrm>
            <a:off x="8534520" y="16524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152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6300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und travels in air by a series o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ress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ref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of the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e of the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RS Question Icon" descr="PRS32"/>
          <p:cNvPicPr/>
          <p:nvPr/>
        </p:nvPicPr>
        <p:blipFill>
          <a:blip r:embed="rId1"/>
          <a:stretch/>
        </p:blipFill>
        <p:spPr>
          <a:xfrm>
            <a:off x="8534520" y="16524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58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95360" y="114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n the surface of a guitar is made to vibrate, we say it undergo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333399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orced vib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n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ra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plitude enhance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457200" y="5029200"/>
            <a:ext cx="807732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7960" indent="-507960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omment: The sound may be enhanced, but it is the surface of the guitar that undergoes forced vibration.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65988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n an object is set vibrating by a wave having a frequency that matches the natural frequency of the object, what occurs 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252720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ced vib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n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ra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plitude enhance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RS Question Icon" descr="PRS32"/>
          <p:cNvPicPr/>
          <p:nvPr/>
        </p:nvPicPr>
        <p:blipFill>
          <a:blip r:embed="rId1"/>
          <a:stretch/>
        </p:blipFill>
        <p:spPr>
          <a:xfrm>
            <a:off x="8534520" y="16524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160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65988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n an object is set vibrating by a wave having a frequency that matches the natural frequency of the object, what occurs 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52720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ced vib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99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reson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ra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plitude enhance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457200" y="5029200"/>
            <a:ext cx="807732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7960" indent="-507960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omment: Resonance, rather than amplitude enhancement, is the better answer.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80880" y="39348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oise-canceling devices such as jackhammer earphones make use of sou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tru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er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n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plific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RS Question Icon" descr="PRS32"/>
          <p:cNvPicPr/>
          <p:nvPr/>
        </p:nvPicPr>
        <p:blipFill>
          <a:blip r:embed="rId1"/>
          <a:stretch/>
        </p:blipFill>
        <p:spPr>
          <a:xfrm>
            <a:off x="8534520" y="16524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168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80880" y="39348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oise-canceling devices such as jackhammer earphones make use of sou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tru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99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nterfer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n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plific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1141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phenomenon of beats is the result of sou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tru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er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n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plific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RS Question Icon" descr="PRS32"/>
          <p:cNvPicPr/>
          <p:nvPr/>
        </p:nvPicPr>
        <p:blipFill>
          <a:blip r:embed="rId1"/>
          <a:stretch/>
        </p:blipFill>
        <p:spPr>
          <a:xfrm>
            <a:off x="8534520" y="16524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175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47640" y="1141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phenomenon of beats is the result of sou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tru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99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nterfer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n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plific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9348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n a 134-Hz tuning fork and a 144-Hz tuning fork are struck, the beat frequency i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H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 H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 H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than 8 H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RS Question Icon" descr="PRS32"/>
          <p:cNvPicPr/>
          <p:nvPr/>
        </p:nvPicPr>
        <p:blipFill>
          <a:blip r:embed="rId1"/>
          <a:stretch/>
        </p:blipFill>
        <p:spPr>
          <a:xfrm>
            <a:off x="8534520" y="16524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182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47640" y="39348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n a 134-Hz tuning fork and a 144-Hz tuning fork are struck, the beat frequency i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H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 H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 H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99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more than 8 H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457200" y="5029200"/>
            <a:ext cx="807732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7960" indent="-507960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xplanation: The beat frequency is the difference between the two, 10 Hz (which is more than 8 Hz).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80880" y="114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n your radio set is tuned to an incoming radio signal, what occur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ced vib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RS Question Icon" descr="PRS32"/>
          <p:cNvPicPr/>
          <p:nvPr/>
        </p:nvPicPr>
        <p:blipFill>
          <a:blip r:embed="rId1"/>
          <a:stretch/>
        </p:blipFill>
        <p:spPr>
          <a:xfrm>
            <a:off x="8534520" y="16524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190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139680"/>
            <a:ext cx="838224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und travels in air by a series o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ress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ref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99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Both of the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e of the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80880" y="114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n your radio set is tuned to an incoming radio signal, what occur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ced vib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99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Reso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39348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vibrations set up in a radio loudspeaker have the same frequencies as the vibr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electric signal feeding the loudspeak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t produce the sound you he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of the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e of the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RS Question Icon" descr="PRS32"/>
          <p:cNvPicPr/>
          <p:nvPr/>
        </p:nvPicPr>
        <p:blipFill>
          <a:blip r:embed="rId1"/>
          <a:stretch/>
        </p:blipFill>
        <p:spPr>
          <a:xfrm>
            <a:off x="8534520" y="16524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65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39348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vibrations set up in a radio loudspeaker have the same frequencies as the vibr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electric signal feeding the loudspeak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t produce the sound you he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99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Both of the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e of the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6300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und travels i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i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qui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of the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RS Question Icon" descr="PRS32"/>
          <p:cNvPicPr/>
          <p:nvPr/>
        </p:nvPicPr>
        <p:blipFill>
          <a:blip r:embed="rId1"/>
          <a:stretch/>
        </p:blipFill>
        <p:spPr>
          <a:xfrm>
            <a:off x="8534520" y="16524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72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10152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und travels i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i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qui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99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ll of the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71320" y="114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 which of these materials does sound travel fastes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the same at the same temper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RS Question Icon" descr="PRS32"/>
          <p:cNvPicPr/>
          <p:nvPr/>
        </p:nvPicPr>
        <p:blipFill>
          <a:blip r:embed="rId1"/>
          <a:stretch/>
        </p:blipFill>
        <p:spPr>
          <a:xfrm>
            <a:off x="8534520" y="16524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79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8T15:04:42Z</dcterms:created>
  <dc:creator>dking</dc:creator>
  <dc:description/>
  <dc:language>en-US</dc:language>
  <cp:lastModifiedBy>Asus</cp:lastModifiedBy>
  <dcterms:modified xsi:type="dcterms:W3CDTF">2018-03-09T16:37:52Z</dcterms:modified>
  <cp:revision>88</cp:revision>
  <dc:subject/>
  <dc:title>Chapter 10</dc:title>
</cp:coreProperties>
</file>